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C1E-5415-46FD-9720-AD835CBF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942-8E82-4A3E-8AA2-C07FDA5E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AB26B-3869-4A52-899D-DB9AEF5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A686E-7826-4787-B0BC-91FD9A9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F8DF5-9A2C-4DF9-AE5D-97245BF2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D9568-EB83-4E8A-90B8-9338C92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4537C-2423-4EA3-A3D4-8A7EE34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8C22B-18D0-49A8-86D2-A2E8BAE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497A-F4BE-4087-BA4F-B4E1724C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5B8A4-97F7-4C6A-B09F-946896C6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A5CF-366F-434F-9A56-C0793A3C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A169A-091C-4904-96E7-893478A0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86B-CCE0-4E71-896C-3413A6B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ED0B1-5FF3-403E-B618-7C8B0BF6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282A3-4164-472D-819A-E688FE3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1127F-FD23-4D98-A472-016179E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994D-525F-4ACA-A334-7C875D08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20F56-1211-40BC-92AF-2A791805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7461B-7CD8-44DD-A4D9-312C7AB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5E295-132B-410F-A17D-0A77CF19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179B-22F2-4EA1-B3D5-2354572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AF3A7-57C9-4502-BCD4-4691169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DF25E-0E23-4415-A53F-E50A91D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BEA-E973-448A-8E7E-24B87850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8DC80-BEA7-485C-BC9F-280B80F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74B32-58FB-4000-990E-74FF6914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F048D-DBDD-4A9D-9666-12F10FD6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EEA58-BC89-45FB-A9A2-B82EB0F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C1FC-BBE6-477F-941C-A5B7194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609FB-EB1F-453B-AB72-16AE562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C3474-E9FE-435E-877B-F01783C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3A805-D69B-4698-B6BA-40F157F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DDA13-B569-4F1E-AFCE-835471C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17EB7-C1CB-4DB3-BF96-5E86320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73BD-FAF8-4C55-9459-0CF4E14F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0AD5-EF0C-41D0-A2F3-2596B01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D908-1D7D-4BE7-B80F-380D2EF6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33536-300E-42EC-B961-69CFE161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40EA5-D7D7-47CB-A0CD-23C38399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11F3D-EB63-488E-93B3-03E6368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D4B36-2C10-46C5-88FC-6F0BC94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0352F-6830-43E8-B6D4-BC37346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F9E44-5109-4DE8-A2B3-0929AE98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15483-DD56-46E7-A234-A7BDD1D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54AD5-A1AF-4C65-83F0-1351EBE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60F-2878-4F77-8DC6-3BB1B95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C5DC6-B446-4496-A0F4-A1D110D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499DC-3FE8-43EE-849A-359DB246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415EE-33C5-49EB-940F-3EE4983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50405-EB4F-466F-932F-9865B3AD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AD79-7A8D-4DEE-8F1B-A4B9BDD4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611BB-A2C4-4A35-8A3B-FDC1D37D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9CAC2-A3FD-43C0-9636-21EB9A2B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B8181-4CF9-46F6-A3BD-3441D66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E8421-0853-4094-BE20-7A9CF63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A9A5C-A204-4F38-BF51-0BFFE24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60B6-96C1-46A6-8552-305202E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271E2-21AC-4BC2-AB9F-44472AC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6BAD6-DC64-4C8F-ACD6-134A5A7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B7705-B827-4248-8154-C1AD2E2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3C03C-BB7B-41EA-8EFF-5A0305F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35BB7-F838-40D7-B5A8-B68BAA2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FCF6E-C2DF-4DA1-980D-5CBEF6AF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6281C-EC2A-412B-9DFE-0AE1A349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05BAD-D4F9-4A4E-AC8E-14084033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9F4B5-80C7-4ED4-86D0-C7C38BC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0C45B-D065-4DD0-B1D9-01DD5FE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8317-5F83-4DD5-A5B5-D721A6D5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AD820-35C6-4C0A-905E-7A27787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2253F-D49E-4294-99D0-51A78EE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84371-18BC-4BA5-9BC6-C744BFE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422B8-20A1-46F1-9E83-927B2B8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9F269-4AF3-4ADE-9CD7-F111FCC7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DC748-93A8-4B30-A723-794261D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36D66-37EC-4C55-BE03-947D19A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D2A1C-30DD-4505-8EBE-748E7E6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BCED3-1F63-43CE-8E39-138C65FB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10DE6-2171-4B10-B639-2E40ABA1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174B-FBF7-41C6-A2E7-96F309A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809D2-22B0-4239-B7FE-2AF8947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6919F-A3BC-4A48-9A26-DB07EEB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35AA5-71C8-4C10-8681-14DF3180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7D4C7-842B-41FD-BA7C-3A6E4A0E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CC7C6-3ACC-4D77-9EE5-8418293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7D815-1D8C-4916-8EC8-8B59679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4C692-1330-44C3-B09B-7CB9C99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BF205-B88A-4458-9721-235B3B3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0BAC2-6AF3-4C41-B6FB-60AB911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907AC-069D-4522-873E-A36FBE22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FB4-1787-4EBC-BC36-3620A2B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E4C08-322E-410D-8C24-582F7FB2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0D72C-FEF5-4CF8-95AE-BF87A00A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1F35F-3117-4BB3-A83F-9C29AFA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879BC-25E4-4086-A113-37FA956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75E2D-5EE3-4501-873F-6B167A10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ECA70-1884-46B6-B35D-F3965637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6AE8E-FABE-4ACC-AF06-F92844F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FDB52-839D-4F84-9F9E-11C0D0D8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C6378-E8E6-41BE-9B55-5D7722F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3E247-8453-493D-93E0-1669C5C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AC86-E617-4A64-8900-88E2DE3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CD218-93F7-4139-8F75-A9542588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53700-381B-4CD6-AC4F-68861DD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ACFD-58D0-489D-90D6-010E1CE7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67BA1-9C8F-44FC-AB5A-F1D1A8C9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F2532-BE6D-4D10-8658-3F48756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5C454-A4CA-4661-80F3-A09BEE8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66918-1AF1-49BC-ADB5-A0F4511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CD4B1-F483-461D-BD82-A82624B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4347F-AA92-4320-A7D6-71C8240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12238-1592-48AD-B18E-E872236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BDB-673F-404B-B858-7CAC123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D09-10EC-4BF6-ACC3-CC17B86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A530C-A29C-41F8-812A-9A6BED0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5E440-300C-412D-925A-9479CE4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DAA1A-C968-41B8-A2CB-E2C1F89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310B3-C8DB-425D-8860-A556D31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206DF-75EE-482D-91FE-68EC3DF6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EBEA0-85DE-44EB-ADC3-D4C7B3DB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4D333-AF80-4247-B007-6F2E6A0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6C6D3-3B83-4D1D-AEAD-F3D4BFA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8DB38-D556-41D2-AFDC-EA620C1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303FFA-32EA-4F90-AC54-3B8CABFF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6EF-0E20-4E24-A18D-908110A6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10386-8924-46E9-8ACB-0DC0971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BF537-6F9B-4A14-AAAE-7A6E801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2A904-ABEB-44D2-8DB5-F0EC26C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56C3E-3575-47CC-9FBA-5F1DD7D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6EC3E-D8B2-45A8-A9C5-1B4BB954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9B2AC-694B-44EF-908B-C728DBAA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B8A5C-8334-49B5-B399-3BA3FA03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6BA70-FA15-4566-9B9A-D8616F71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3A0FE-533F-459E-977B-BC829714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E28F8-E2F3-446D-8F6D-15C224F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511-599B-4532-A8B3-2A24F9E3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FD7BE-8992-4BB4-9F1F-AFAAC8E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7AEA5-BBA2-4972-95B5-FC604840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78260-AE19-4175-9821-C233F9E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A30D6-D719-4F6B-AB6A-F0E8E3C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525DB-6E6A-438A-80EA-BB65EAB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69210-AF11-4DDE-9B49-4B7D722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18DE4-E4F9-4583-943A-F38E8D19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E9D11-5466-461B-B9AF-4E2ED147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06D90-15E9-4846-B589-1475D3A9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27553-411F-4794-9BE7-BAD25E34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657-3491-48CF-8BD7-ECE35A2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D1081-BF2B-4CF5-83B8-5F7E2B72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EBD5A-F702-49BB-9CC4-61614F1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A1E78-AF75-482F-AC75-92124CE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9EDA9-C78B-4489-A432-0E17B745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CAD8B-6AAE-48EA-8BB6-7195B5A4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9113E-040E-4241-83A3-0331D28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6662A-F637-43B1-9981-6A107BF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12521-630D-44BB-A91B-6561641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5609B-8392-4CF5-B674-64477C6B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8520D-45D3-411C-93CD-85951E76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6DE6-210F-4223-8F0D-369BDE8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A47FA-854A-44F8-BE11-322184F2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9E8B1-7BDC-43DD-9AF3-3DBB74A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65E04-4C66-4166-9E1B-8507EF7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F6EC5-8DDE-4434-A69F-E02D4FA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784D3-F6F4-4D4A-81D9-73A9798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DFAD2-0CAC-497B-8E3A-010C0B6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A4F63B-0B2D-41C2-88E9-4EDF31B1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AF986-5918-4FD3-9768-1A3610C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FDD22-6480-47AA-809C-FFFC61D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364AD-97D3-459F-AF74-A63E9A5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F723-22EA-41A6-8DC6-D3E3302C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D1CC7-32A1-4FB7-998C-74D9CA3D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C33D2-B6C4-4CC8-9168-85AAB4A1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8FAAA-6C51-4F10-A90D-B161FCFA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60EC-DD4F-4272-A8D2-CC40BC8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C087-80DC-40D4-8BFC-5EFCEB8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8DB3-3001-47C6-9E8F-EE862B67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0688-3C1C-4C60-A242-6966C198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C13-DB4D-4484-955B-F692C11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EF08-439D-4C4C-B53A-FB9ABAF0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9AC6-9430-4A8C-BF87-44E82E8A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CEE8-92EF-45E0-8998-1223F07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2994-BF61-4DEF-9BCD-97DACD5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3D34-FB2C-4979-892F-80D1AF1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9541-9312-4BB0-8517-B43AF053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C554-A1E3-4480-8025-5156A78C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B7B1-3148-4B55-91FD-1C7A85F6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0C78-9E09-443E-A9EA-EAAA53D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BE25-8C48-4216-8A28-3C2545A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282-55AE-40D2-AD6A-685B7CF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5377-0A82-4DC8-9B99-9D13A6B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ADCC-C48F-446B-BEDE-835C1312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71E5-4C58-4934-AC3A-9376C4BA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6C45-8533-4D53-AD57-B047B43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A206-3077-4BEB-8639-4127FBB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CC82-EA72-4F3A-8770-25F2FA6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C8BA-86AE-4894-B466-54353F5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0E6F-AB05-4D9B-AE77-D813906F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0029-C2A6-4173-89AF-E96F51EF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1927-4535-4C9C-AF95-C3B142DB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9DF-C037-420A-9A32-C1899C0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E351-0E4B-41AE-9054-D8563B4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D323-080F-4E2D-AD96-FB5105B7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CB0D-6B94-40CB-8A25-17CC374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9992-FB7B-45AF-AB06-1AA916E0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C09D-7227-4B50-BDB2-0EC9B1F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C22C-2F58-416F-AF3E-D9555D0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9DF3-B2A3-41C8-AF2D-C032D56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5885-AA1D-44FA-B3FF-1093424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51EE-63C5-4260-9217-DCDFD87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47898-E3F3-4FC1-B301-AAC9020F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7DC-C715-459B-9AE1-5FB217AE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82DD-EA03-4388-AB99-FBEB5CAE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6C62-18CF-44CD-A761-E79560D2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0E7D-1A49-44E1-92C8-6BD7A0A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AD79-AAC2-4833-AB19-1660B45F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62A8-3C53-45DB-81E6-691B6A7D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13BE-09BC-4752-B6D3-6922D45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FFA7-E42F-417E-BA37-D5C237C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44B9-4742-45BF-B27B-A6C84B4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0FB8-C45E-4760-ADDE-51F664E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1D24-8644-4763-BC91-34F4615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1E2-AE0B-477C-97DC-D86758C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512A-2B08-4675-92F1-BD8161FD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6D7E-5AE1-4B54-BCBE-E897C69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8F20-CFB2-43FB-B6EB-A639D848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63EBD-66EE-4939-9C5E-2D1C1DA8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1490-798D-4261-8201-E35E3BB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F0A1-53E5-4A7D-8C63-CE3ABD4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81EA-678A-46C2-A088-37491E4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48CD-276F-4248-801E-FE73B13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CD4D-56A4-4276-9C11-4901F560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F9C5-19CB-46B4-87E9-0C89EEF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1F6-9114-41AF-A7A8-A095B0D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DB0D-7691-49BB-9D07-6B6781E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433B-35CD-4691-B9E3-0C5E875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B00E8-E86A-4048-854F-A6C317D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676A-2DFD-44D0-B5A1-98AFF2A2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9BF5-6A50-49E5-A640-F5C5EB92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BE01-E15C-4D17-A41C-3B73D30B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3824-3C12-459A-876B-9A8AA05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D633-2582-43B0-82C3-3E9904C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3F01-1CA8-4924-A53C-E1561EAD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D55BF-CA1C-45B3-A9DE-3D8283B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0DD-12B2-443E-B98E-3E3081F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7F54-10FE-4C8E-A7E1-7EB7DC36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4462-7C83-4735-AD53-1ECAC45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F894-19DF-4AE9-B50C-9BE4307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6447-A0BB-4E4A-9872-D3837A2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F2322-A14A-4108-B315-2F8A732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9FF22-F22E-4099-8622-7F0B6F13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43D6-DEB1-4A3B-9CF3-A260C382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7CC19-222D-4E71-889F-D5661B6A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5FAA-CADB-4C39-9ACE-4B972CA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78243-88AE-4104-A6C7-ED792EA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57C-C9FC-4ABD-B568-B16E05FA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B9D-DEBE-49D5-8520-3F509B084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B3C-AD83-4CD8-BBBD-2219BAC14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191-4E56-4723-8415-42F71D9E0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B56-3F91-4CD5-A43C-E57BC4E75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59F-3A64-4EFF-9633-67613DCC3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FA3-FA57-4CE0-9D9F-45A4766FF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60B-2DDA-40FE-BB00-CEE56C28BD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D91-1E23-4A76-979F-F3CCD8497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C91-EE3B-4413-B124-4D768E0BB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611D-6EE3-4B71-A0E8-D02DB343F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60F7-73C8-4E43-AD67-82EABE917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1D6-694B-4969-8705-B7BE4179D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88A5-731B-4591-BA82-9609C04EF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3F1-269A-4DE1-84C3-BE637696D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65C-4B91-43A3-8E83-988C4802F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9FF-EE4C-4509-89B8-55C4CF7AC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9A1-2D85-4B9A-AF7F-16DA1E31E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2233-02F8-40B5-8AA8-D35DD8DC7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074-68DA-4746-BE12-E5066EEB1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3B7F-1D90-4931-BFDD-0FAB6CBF0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523-5D6F-422B-91A3-9DC90490C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257-6478-4D2A-B536-F309D1E7B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8271-B46F-4406-AAF7-C19FE8296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2CE-8798-43F2-80E6-3D3EBDE8A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A772-0B4D-43E0-8D26-834A812A3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CE3-4B0F-484C-910C-D66AFF1B2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658-58B4-427B-B3AA-4CED4612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B438-C620-40B0-B8E0-8C126F33E9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A6E-E913-4D47-A602-A5806F024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E3D-0D0D-4E71-9BC7-DD40AA9BF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1556-6D35-4B70-8A19-F6A6A2B9E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BB6-0716-487F-9FB8-AE8B7920B1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98F-F3EA-4504-82A7-8A3732F01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18F2-38BC-49E2-B64F-339A37A9C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1141-B27B-4ADC-8B88-8DE23134E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BF9-3403-486A-A06F-2106D9326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CB24-F637-4412-BF02-6AED8832A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7E3-A4CA-4E5C-8DF6-A5BE1262A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9EF7-1C9B-43C3-904F-DDA4AA17D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9400" y="2924280"/>
            <a:ext cx="87436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438120" y="2781360"/>
            <a:ext cx="8267760" cy="1295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042920" y="286704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285840" y="728640"/>
            <a:ext cx="8572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452520" y="1638360"/>
            <a:ext cx="8237520" cy="3581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826920" y="315612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826920" y="47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71640" y="779400"/>
            <a:ext cx="7200720" cy="5884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5364000" y="1801800"/>
            <a:ext cx="187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292720" y="266544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003640" y="3529080"/>
            <a:ext cx="187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364000" y="4394160"/>
            <a:ext cx="187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156360" y="524340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084720" y="6107040"/>
            <a:ext cx="1872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538280" y="1805040"/>
            <a:ext cx="6067440" cy="3247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5867280" y="1787400"/>
            <a:ext cx="144144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6012000" y="2651040"/>
            <a:ext cx="144144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5940360" y="3514680"/>
            <a:ext cx="144144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4932360" y="4379760"/>
            <a:ext cx="201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2" descr=""/>
          <p:cNvPicPr/>
          <p:nvPr/>
        </p:nvPicPr>
        <p:blipFill>
          <a:blip r:embed="rId1"/>
          <a:stretch/>
        </p:blipFill>
        <p:spPr>
          <a:xfrm>
            <a:off x="752400" y="1719360"/>
            <a:ext cx="7639200" cy="341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835280" y="275112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335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409680" y="885960"/>
            <a:ext cx="8324640" cy="5648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826920" y="865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452520" y="2324160"/>
            <a:ext cx="8237520" cy="22096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76320" y="138240"/>
            <a:ext cx="8991360" cy="65815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1187280" y="1859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1187280" y="342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125892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81000" y="803160"/>
            <a:ext cx="8980560" cy="5400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916360" y="2550960"/>
            <a:ext cx="10792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3348000" y="409104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4284720" y="489744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268360" y="566100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